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2BF-54A4-4AFF-9245-95A4DC51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E40-51CE-40CC-BDEB-883D557E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1D1-8C51-4FBC-A3A5-FB21FC13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23E-937C-4E5F-AD55-AC78E341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1F7-CFFC-499C-9BC1-B6D80E0F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BA1-15AF-47CA-88B7-48D97A54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B53-B29B-4D5F-826D-80411DEA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5F4-BF8E-4ABE-A707-4E1D8E64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859-6AF3-4FF6-B871-71689284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481-468B-4A9C-B85D-2C237E06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A55-320F-4EB0-AAD3-19E98A72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358-AE11-461E-A3D6-34B8E09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DA4A-4688-4AC6-BFD2-8DAD41271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660680"/>
            <a:ext cx="746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6 Views of the 190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an Franci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arthquake and F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0000" y="4146480"/>
            <a:ext cx="43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rom the Archiv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62120" y="609480"/>
            <a:ext cx="7619760" cy="4292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3760" y="519120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ugees search for souvenirs on sidewalk in front of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nford mansion on Powell Street at Califor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4165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7400" y="5419800"/>
            <a:ext cx="79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nken cobblestone paving along Spear at Market Str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5981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320" y="6102360"/>
            <a:ext cx="80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ined homes and pavement on Dore Street near Fol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762120" y="1522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31840" y="5877000"/>
            <a:ext cx="69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ssion Dolores on Dolores at 16th street, an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ecked Parish church next t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01520"/>
            <a:ext cx="7619760" cy="5842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21240" y="5952960"/>
            <a:ext cx="70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maged warehouse in the area of Nineteent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lsom stre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66960" y="0"/>
            <a:ext cx="5410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71600" y="5807160"/>
            <a:ext cx="65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arthquake-wrecked water main near Crystal Springs Reservoir in San Mateo Cou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62120" y="457200"/>
            <a:ext cx="7619760" cy="534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62040" y="58770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roken water mains on Valencia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8th and 19th stre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62120" y="457200"/>
            <a:ext cx="7619760" cy="4610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5127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ugees built shanties from any available materials to house themselves after the disaster. This encampment is near the Marina. The Army later provided tents for refug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8600" y="2284560"/>
            <a:ext cx="85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epared by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useum of the City of San Franci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7680" y="442584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987560"/>
            <a:ext cx="7619760" cy="288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86400" y="503856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Great Fire as seen from a ferry boat in the B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62120" y="762120"/>
            <a:ext cx="7619760" cy="4863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3680" y="5724360"/>
            <a:ext cx="72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e around the Call Building at Third and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eets. Emporium, at Powell and Market, is at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62120" y="457200"/>
            <a:ext cx="7619760" cy="476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5334120"/>
            <a:ext cx="777240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m and Egg” fire burns at Grove and Laguna stre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ew is along Grove Street. City Hall dome can be seen in the smoke clo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31840" y="1143000"/>
            <a:ext cx="5080320" cy="408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7680" y="5419800"/>
            <a:ext cx="755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ose-up view of refugees fleeing along Grove Str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large clusters of refugees along the street 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are involved in rescuing trapped per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2120" y="317520"/>
            <a:ext cx="7619760" cy="600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228600"/>
            <a:ext cx="6645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owds gather at Market and Laguna streets to flee the Great Fire. Building at lower center right still survives as do along Laguna. Almost all others pictured here bu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762120" y="228600"/>
            <a:ext cx="7619760" cy="538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00640" y="5724360"/>
            <a:ext cx="755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ew from Laguna and Market streets of the Great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rning through the Mission Distr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41720" y="380880"/>
            <a:ext cx="4660560" cy="561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33440" y="6029280"/>
            <a:ext cx="66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ew of the Great Fire as seen from China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57680" y="76320"/>
            <a:ext cx="34290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18520" y="5877000"/>
            <a:ext cx="512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eadful earthquake damage, al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ant Ave., in China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05:26:39Z</dcterms:created>
  <dc:creator>Museum of the City of San Francisco</dc:creator>
  <dc:description/>
  <dc:language>en-US</dc:language>
  <cp:lastModifiedBy>Webmaster</cp:lastModifiedBy>
  <dcterms:modified xsi:type="dcterms:W3CDTF">2001-05-22T17:56:29Z</dcterms:modified>
  <cp:revision>21</cp:revision>
  <dc:subject/>
  <dc:title>No Slide Title</dc:title>
</cp:coreProperties>
</file>